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186-4DB4-4385-9965-74A51000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2A4-059A-4D8A-8A08-773B8C9C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B37-C2A6-4CFD-B344-8B465419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3D6-7D71-408B-A95D-23AFE668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99D6-352E-4435-AB82-F45EF718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F3FA-4E10-4E99-8A78-82A2384E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F489-E143-48B4-A64E-C5F6214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96EF-4787-4407-AD9E-B75C1C17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55B6-8D47-47F7-BA7D-78450FC5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1317-1CE0-4B7D-B650-31556216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1785-FAB6-4431-AD15-979631E1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B30-98CB-4837-9536-ED8DFAF6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4ECF-E381-46A9-9344-11344553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760-1451-44F9-8BD4-B3637321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2F61-3C93-4216-A765-67C0B0FB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CCD0-559F-420A-8562-0C0E73D1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5C06-97F6-4DC4-8275-ECD938A8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4EF-BB56-4655-A76A-02A53C55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F89-BE51-4C1E-A00C-3ECCBA73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6CF-5B4D-4FB3-92EC-0A355E41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96B-229D-4DCE-99C5-E98ED5A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BCC-FC73-4168-8EBC-D28932E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150-05C6-4282-B849-468A6340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E12-F56C-431C-AEF8-90AF9A67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B1EE-80C7-46FF-9033-AD62FC853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73E-250F-480D-9CBE-9F90E2F78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_x0010_It’s is possible that nations such as Kirkbati _x0010_may have already reached a tipping point because of the long delay involved in  reducing greenhouse gas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-- Andr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8:37:08Z</dcterms:created>
  <dc:creator>PA Department of Education</dc:creator>
  <dc:description/>
  <dc:language>en-US</dc:language>
  <cp:lastModifiedBy>PA Department of Education</cp:lastModifiedBy>
  <dcterms:modified xsi:type="dcterms:W3CDTF">2009-05-27T18:31:44Z</dcterms:modified>
  <cp:revision>3</cp:revision>
  <dc:subject/>
  <dc:title>Something  </dc:title>
</cp:coreProperties>
</file>